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9F473-71F3-43E8-9A53-6FF11938C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0834D-B8C0-4BC0-9471-F59507F04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097B6-4C16-4D65-BEAD-B03836171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937C5-39DF-4036-BB68-30ED086E1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44B9A-3973-4C72-91F3-BABBDD5DF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672B2-B5F5-4893-A95E-BE5E8C568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D8838-4240-4135-AB24-F0C6F1235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45FD3-4B6B-4923-B073-CB3D5D641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BDCEE-A21F-4DF6-A71B-AAAB7AEE5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8A115-F3F7-4117-8504-B40C1B7F5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31AD4-FBD9-4DF3-BF27-63147A9CF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FCF15-D815-4BEB-8608-BD930DEC8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BB6D3-1A5E-4948-88D0-5297B69EB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2279C-7D19-4C7E-B795-11F105A4F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7E630-9928-48E3-8CF9-408C973BC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D4233-210A-4BC9-9397-D7AB43A0D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1819D-C9F1-4888-BE3D-F10E1AD60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D44BB-243B-486B-B0C6-10828774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2008-DB32-47F8-BE47-A132A6DD8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138B6-FA1F-41B6-80A9-C83164ABA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93E17-50F8-4D5B-9885-C42413C35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83BDC-D465-47D1-B867-87097355B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6D78C-5E4B-4A6B-B866-A85A088D7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2755-8770-4B7D-B809-707959B81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2BB9-E778-4851-AE4D-99FFB61B7F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7494-4A5D-4F86-9351-B1FA652086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amurai-archives.com/mitsusuke.html" TargetMode="External"/><Relationship Id="rId2" Type="http://schemas.openxmlformats.org/officeDocument/2006/relationships/hyperlink" Target="http://samurai-archives.com/mitsusuke.html" TargetMode="External"/><Relationship Id="rId3" Type="http://schemas.openxmlformats.org/officeDocument/2006/relationships/hyperlink" Target="http://samurai-archives.com/mitsusuke.html" TargetMode="External"/><Relationship Id="rId4" Type="http://schemas.openxmlformats.org/officeDocument/2006/relationships/hyperlink" Target="http://samurai-archives.com/mitsusuke.htm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4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comic"/>
              </a:rPr>
              <a:t>Samurai</a:t>
            </a:r>
            <a:endParaRPr b="1" lang="en-US" sz="7200" spc="-1" strike="noStrike">
              <a:solidFill>
                <a:srgbClr val="feec94"/>
              </a:solidFill>
              <a:latin typeface="Times New Roman"/>
            </a:endParaRPr>
          </a:p>
        </p:txBody>
      </p:sp>
      <p:sp>
        <p:nvSpPr>
          <p:cNvPr id="121" name="PlaceHolder 2"/>
          <p:cNvSpPr>
            <a:spLocks noGrp="1"/>
          </p:cNvSpPr>
          <p:nvPr>
            <p:ph type="subTitle"/>
          </p:nvPr>
        </p:nvSpPr>
        <p:spPr>
          <a:xfrm>
            <a:off x="1371600" y="3124080"/>
            <a:ext cx="6400800" cy="1371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Brandon Goetz &amp; Spencer Johnston</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914040"/>
            <a:ext cx="754380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he Japanese Samurai were the master swordsmen of all time. They made the katana infamous as a lightening fast weapon that could cut through anything. In only Seconds, they could draw the katana, effortlessly wave it about their body in a butterfly motion with such great speed that you could barely comprehend where the hands had been. In the early 2nd century, Japanese swordsmiths started inserting softer cores into blades which significantly heightened sword flexibility. These new baldes could withstand the impact of heavy blows on armor without breaking. As warfare changed in Japan, the mounted warrior's Tachi sword was redesigned for foot soldiers. and the katana was born. They used the Yumi as their long bow.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990720" y="4038480"/>
            <a:ext cx="6553080" cy="243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murai’s Armor</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amurai's armor was mainly for speed but had a bit of strength behind it. It was light and easy to move around 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The silk robe was put on firs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he lower body was then put on after the silk rob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They would then put on their shoes and tie his leg armor onto i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The arm plates were wor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The body armor was then placed over top of the silk rob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The armored Skirt was appli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The shoulder pads were placed onto the shoulder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Then finally the helmet was placed on and ready to g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228600"/>
            <a:ext cx="3200400" cy="2819520"/>
          </a:xfrm>
          <a:prstGeom prst="rect">
            <a:avLst/>
          </a:prstGeom>
          <a:ln w="0">
            <a:noFill/>
          </a:ln>
        </p:spPr>
      </p:pic>
      <p:pic>
        <p:nvPicPr>
          <p:cNvPr id="142" name="" descr=""/>
          <p:cNvPicPr/>
          <p:nvPr/>
        </p:nvPicPr>
        <p:blipFill>
          <a:blip r:embed="rId2"/>
          <a:stretch/>
        </p:blipFill>
        <p:spPr>
          <a:xfrm>
            <a:off x="457200" y="3276720"/>
            <a:ext cx="7696080" cy="3352680"/>
          </a:xfrm>
          <a:prstGeom prst="rect">
            <a:avLst/>
          </a:prstGeom>
          <a:ln w="0">
            <a:noFill/>
          </a:ln>
        </p:spPr>
      </p:pic>
      <p:pic>
        <p:nvPicPr>
          <p:cNvPr id="143" name="" descr=""/>
          <p:cNvPicPr/>
          <p:nvPr/>
        </p:nvPicPr>
        <p:blipFill>
          <a:blip r:embed="rId3"/>
          <a:stretch/>
        </p:blipFill>
        <p:spPr>
          <a:xfrm>
            <a:off x="4800600" y="228600"/>
            <a:ext cx="2933640" cy="28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7920"/>
            <a:ext cx="807732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istory</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295280"/>
            <a:ext cx="815328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he Samurai rose to prominence in the Heian Period of Japanese history, which was between the periods of AD 794 to AD 1185. The powerful Daimyo began to hire these Samurai warriors to protect their properties.As the Japanese feudal lords grew in power, they continued to fight within themselves for more land and more power. This increased the importance of these Samurai Warriors. In 1192, a new military government was established by Minamoto Yoritomo, who was the ‘Shogun’ (the richest and most powerful Daimyo in the land) and the highest military officer. He also became the ruler of Japan. In the time between these wars, the Samurai spent time working on farms. The Samurai Philosophy is very well developed and places a high regard for Learning. They studied several topics such as strategy, planning, war craft and art. Many Samurai warriors were also masters of calligraphy and poetry. Between 1573 and 1603, Toyotomi Hideyoshi united all of Japan under one banner and introduced the caste system. He forced the Samurai to choose between a farmer’s life and a warrior’s life. He also made it forbidden for anyone else apart from the Samurai to wear arms. In this caste system, the Samurai were at the top and were followed by farmers, artisans and merchants. Each caste also had its internal hierarchy. It was during the time period between 1603 and 1868 that all these changes were implemented, and became well ingrained into the culture of Japan. During this time, the Samurai were forced to live in castle towns and their income was provided by their Daimyos in the form of rice. For about 250 years from 1615, there was a relative amount of peace in Japan. Most Samurai warriors became bureaucrats, artists or teachers, while the importance of martial skills was reduced.  In 1868, with the end of Japan's feudal era, the samurai class was abolished.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mous Samurai</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Times New Roman"/>
                <a:hlinkClick r:id="rId1"/>
              </a:rPr>
              <a:t>Akamatsu</a:t>
            </a:r>
            <a:r>
              <a:rPr b="0" lang="en-US" sz="1600" spc="-1" strike="noStrike" u="sng">
                <a:solidFill>
                  <a:srgbClr val="ffffcc"/>
                </a:solidFill>
                <a:uFillTx/>
                <a:latin typeface="Times New Roman"/>
                <a:hlinkClick r:id="rId2"/>
              </a:rPr>
              <a:t> </a:t>
            </a:r>
            <a:r>
              <a:rPr b="0" lang="en-US" sz="1600" spc="-1" strike="noStrike" u="sng">
                <a:solidFill>
                  <a:srgbClr val="ffffcc"/>
                </a:solidFill>
                <a:uFillTx/>
                <a:latin typeface="Times New Roman"/>
                <a:hlinkClick r:id="rId3"/>
              </a:rPr>
              <a:t>Mitsusuke</a:t>
            </a:r>
            <a:r>
              <a:rPr b="0" lang="en-US" sz="1600" spc="-1" strike="noStrike" u="sng">
                <a:solidFill>
                  <a:srgbClr val="ffffcc"/>
                </a:solidFill>
                <a:uFillTx/>
                <a:latin typeface="Times New Roman"/>
                <a:hlinkClick r:id="rId4"/>
              </a:rPr>
              <a:t>:</a:t>
            </a:r>
            <a:r>
              <a:rPr b="1" lang="en-US" sz="1600" spc="-1" strike="noStrike">
                <a:solidFill>
                  <a:srgbClr val="ffffff"/>
                </a:solidFill>
                <a:latin typeface="Times New Roman"/>
              </a:rPr>
              <a:t> </a:t>
            </a:r>
            <a:r>
              <a:rPr b="0" lang="en-US" sz="1600" spc="-1" strike="noStrike">
                <a:solidFill>
                  <a:srgbClr val="ffffff"/>
                </a:solidFill>
                <a:latin typeface="Times New Roman"/>
              </a:rPr>
              <a:t>Ashikaga period Shugo and the assassin of Shogun Ashikaga Yoshinori (D. 1441)</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ayama Beisetsu: </a:t>
            </a:r>
            <a:r>
              <a:rPr b="0" lang="en-US" sz="1600" spc="-1" strike="noStrike">
                <a:solidFill>
                  <a:srgbClr val="ffffff"/>
                </a:solidFill>
                <a:latin typeface="Times New Roman"/>
              </a:rPr>
              <a:t>One of Takeda Shingen's 'Twenty Four Generals' (1532? - 1582)</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hikaga Takauji: </a:t>
            </a:r>
            <a:r>
              <a:rPr b="0" lang="en-US" sz="1600" spc="-1" strike="noStrike">
                <a:solidFill>
                  <a:srgbClr val="ffffff"/>
                </a:solidFill>
                <a:latin typeface="Times New Roman"/>
              </a:rPr>
              <a:t>Founder of the Ashikaga Shôgunate (1305 - 1358)</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ba Nobufusa: </a:t>
            </a:r>
            <a:r>
              <a:rPr b="0" lang="en-US" sz="1600" spc="-1" strike="noStrike">
                <a:solidFill>
                  <a:srgbClr val="ffffff"/>
                </a:solidFill>
                <a:latin typeface="Times New Roman"/>
              </a:rPr>
              <a:t>Mino no Kami; one of 'Shingen's Twenty-four Generals' (1514 - 1575)</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tori Hanzo: </a:t>
            </a:r>
            <a:r>
              <a:rPr b="0" lang="en-US" sz="1600" spc="-1" strike="noStrike">
                <a:solidFill>
                  <a:srgbClr val="ffffff"/>
                </a:solidFill>
                <a:latin typeface="Times New Roman"/>
              </a:rPr>
              <a:t>Tokugawa retainer and reputed 'ninja' leader (1541 - 1596)</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ôjô Soun (Ise Shinkuro): </a:t>
            </a:r>
            <a:r>
              <a:rPr b="0" lang="en-US" sz="1600" spc="-1" strike="noStrike">
                <a:solidFill>
                  <a:srgbClr val="ffffff"/>
                </a:solidFill>
                <a:latin typeface="Times New Roman"/>
              </a:rPr>
              <a:t>First HÔJÔ Daimyô (1432 - 1519)</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magawa Yoshimoto: </a:t>
            </a:r>
            <a:r>
              <a:rPr b="0" lang="en-US" sz="1600" spc="-1" strike="noStrike">
                <a:solidFill>
                  <a:srgbClr val="ffffff"/>
                </a:solidFill>
                <a:latin typeface="Times New Roman"/>
              </a:rPr>
              <a:t>Daimyô of Suruga and Tôtômi (1519 - 1560)</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namoto Yoshiie: </a:t>
            </a:r>
            <a:r>
              <a:rPr b="0" lang="en-US" sz="1600" spc="-1" strike="noStrike">
                <a:solidFill>
                  <a:srgbClr val="ffffff"/>
                </a:solidFill>
                <a:latin typeface="Times New Roman"/>
              </a:rPr>
              <a:t>Legendary warrior and hero of the 'later three-year war' (1041-1108)</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namoto Yoshitsune: </a:t>
            </a:r>
            <a:r>
              <a:rPr b="0" lang="en-US" sz="1600" spc="-1" strike="noStrike">
                <a:solidFill>
                  <a:srgbClr val="ffffff"/>
                </a:solidFill>
                <a:latin typeface="Times New Roman"/>
              </a:rPr>
              <a:t>Legendary Minamoto general (1159 - 1189)</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yamoto Musashi:</a:t>
            </a:r>
            <a:r>
              <a:rPr b="0" lang="en-US" sz="1600" spc="-1" strike="noStrike">
                <a:solidFill>
                  <a:srgbClr val="ffffff"/>
                </a:solidFill>
                <a:latin typeface="Times New Roman"/>
              </a:rPr>
              <a:t> Noted swordsman, author of </a:t>
            </a:r>
            <a:r>
              <a:rPr b="0" i="1" lang="en-US" sz="1600" spc="-1" strike="noStrike">
                <a:solidFill>
                  <a:srgbClr val="ffffff"/>
                </a:solidFill>
                <a:latin typeface="Times New Roman"/>
              </a:rPr>
              <a:t>Gorin no shô</a:t>
            </a:r>
            <a:r>
              <a:rPr b="0" lang="en-US" sz="1600" spc="-1" strike="noStrike">
                <a:solidFill>
                  <a:srgbClr val="ffffff"/>
                </a:solidFill>
                <a:latin typeface="Times New Roman"/>
              </a:rPr>
              <a:t> (1584? - 1645)</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ôri Motonari:</a:t>
            </a:r>
            <a:r>
              <a:rPr b="0" lang="en-US" sz="1600" spc="-1" strike="noStrike">
                <a:solidFill>
                  <a:srgbClr val="ffffff"/>
                </a:solidFill>
                <a:latin typeface="Times New Roman"/>
              </a:rPr>
              <a:t> Daimyô of Aki (1497 - 1571)</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da Nobunaga: </a:t>
            </a:r>
            <a:r>
              <a:rPr b="0" lang="en-US" sz="1600" spc="-1" strike="noStrike">
                <a:solidFill>
                  <a:srgbClr val="ffffff"/>
                </a:solidFill>
                <a:latin typeface="Times New Roman"/>
              </a:rPr>
              <a:t>Daimyo of Owari and the first of the "Three Unifiers" (1534 - 1582)</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imazu Yoshihisa: </a:t>
            </a:r>
            <a:r>
              <a:rPr b="0" lang="en-US" sz="1600" spc="-1" strike="noStrike">
                <a:solidFill>
                  <a:srgbClr val="ffffff"/>
                </a:solidFill>
                <a:latin typeface="Times New Roman"/>
              </a:rPr>
              <a:t>Daimyô of Satsuma and Ôsumi (1533 - 1611)</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keda Shingen: </a:t>
            </a:r>
            <a:r>
              <a:rPr b="0" lang="en-US" sz="1600" spc="-1" strike="noStrike">
                <a:solidFill>
                  <a:srgbClr val="ffffff"/>
                </a:solidFill>
                <a:latin typeface="Times New Roman"/>
              </a:rPr>
              <a:t>Daimyo of Kai (1521 - 1573)</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kugawa Ieyasu:</a:t>
            </a:r>
            <a:r>
              <a:rPr b="0" lang="en-US" sz="1600" spc="-1" strike="noStrike">
                <a:solidFill>
                  <a:srgbClr val="ffffff"/>
                </a:solidFill>
                <a:latin typeface="Times New Roman"/>
              </a:rPr>
              <a:t>1st Tokugawa shôgun (1543-1616)</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yotomi Hideyoshi: </a:t>
            </a:r>
            <a:r>
              <a:rPr b="0" lang="en-US" sz="1600" spc="-1" strike="noStrike">
                <a:solidFill>
                  <a:srgbClr val="ffffff"/>
                </a:solidFill>
                <a:latin typeface="Times New Roman"/>
              </a:rPr>
              <a:t>Unifier of Japan, Kampaku (1536 - 1598)</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esugi Kenshin (Nagao Kagetora): </a:t>
            </a:r>
            <a:r>
              <a:rPr b="0" lang="en-US" sz="1600" spc="-1" strike="noStrike">
                <a:solidFill>
                  <a:srgbClr val="ffffff"/>
                </a:solidFill>
                <a:latin typeface="Times New Roman"/>
              </a:rPr>
              <a:t>Daimyo of Echigo (1530 - 157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ble of Contents</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2362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ut the Samura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puk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shi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rai’s Swor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rai’s Arm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ous Samura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murai</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1800" spc="-1" strike="noStrike">
                <a:solidFill>
                  <a:srgbClr val="ffffff"/>
                </a:solidFill>
                <a:latin typeface="Times New Roman"/>
              </a:rPr>
              <a:t>The Samurai were tough fighting men skilled with many Martial Arts. Samurai had extensive skills in the use of the bow and arrow and katana mastery. They were just as Powerful with their bare hands. They were great horsemen. These warriors were men who lived by Bushido, it was their way of life. the samurai's loyalty to the emperor and his overlord/daimyo were unsurpassed. They were trustworthy and honest. They lived a frugal live with no interest in being rich, but rather in honor and pride. They were men of true valor.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24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End</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3047760"/>
            <a:ext cx="8229600" cy="308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anks for watching hope you’ve Enjoyed our Present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648320" y="304920"/>
            <a:ext cx="4114800" cy="3809880"/>
          </a:xfrm>
          <a:prstGeom prst="rect">
            <a:avLst/>
          </a:prstGeom>
          <a:ln w="0">
            <a:noFill/>
          </a:ln>
        </p:spPr>
      </p:pic>
      <p:sp>
        <p:nvSpPr>
          <p:cNvPr id="129" name="PlaceHolder 1"/>
          <p:cNvSpPr>
            <a:spLocks noGrp="1"/>
          </p:cNvSpPr>
          <p:nvPr>
            <p:ph/>
          </p:nvPr>
        </p:nvSpPr>
        <p:spPr>
          <a:xfrm>
            <a:off x="456840" y="304560"/>
            <a:ext cx="3886200" cy="5105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amurai had no fear of death. they would enter any battle no matter what the odds are. To die in battle would bring honor to him, his family, and his Lord. Samurai usually prefer to fight alone, one on one. In battle, a samurai would call out his family name. rank, and his accomplishments. then he would find an opponent with a close rank and fair battle. Once the samurai has defeated his opponent he severs off his head. After the battle, he takes the heads of his enemies back to show proof of his Victory. The only way out for a defeated samurai was death or the ritual suicide, know as seppuk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ppuku</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ppuku or disembowelment, also known as hara-kiri, belly slicing is when a samurai pierces a knife into his abdomen and literally disembowels himself by cutting out his guts. After the samurai has done this another samurai, usually a kinsman, or a friend, slices off his head. This form of suicide was performed under various circumstances: to avoid capture in battle, which the samurai did not believe to be dishonorable and degrading, A samurai would rather kill himself than bring shame and disgrace to his family name and his lord. This was considered an act of true honor.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ushido</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ushido, the way of the samurai, grew out of the fusion of Buddhism and Shintoism. This way can be summarized in seven essential principles:</a:t>
            </a:r>
            <a:br>
              <a:rPr sz="2400"/>
            </a:br>
            <a:br>
              <a:rPr sz="2400"/>
            </a:br>
            <a:r>
              <a:rPr b="0" lang="en-US" sz="2400" spc="-1" strike="noStrike">
                <a:solidFill>
                  <a:srgbClr val="ffffff"/>
                </a:solidFill>
                <a:latin typeface="Times New Roman"/>
              </a:rPr>
              <a:t>1. Gi: the right decision, taken with equanimity, the right attitude, the truth. When we must die, we must die. Rectitude.</a:t>
            </a:r>
            <a:br>
              <a:rPr sz="2400"/>
            </a:br>
            <a:r>
              <a:rPr b="0" lang="en-US" sz="2400" spc="-1" strike="noStrike">
                <a:solidFill>
                  <a:srgbClr val="ffffff"/>
                </a:solidFill>
                <a:latin typeface="Times New Roman"/>
              </a:rPr>
              <a:t>2. Yu: bravery tinged with heroism.</a:t>
            </a:r>
            <a:br>
              <a:rPr sz="2400"/>
            </a:br>
            <a:r>
              <a:rPr b="0" lang="en-US" sz="2400" spc="-1" strike="noStrike">
                <a:solidFill>
                  <a:srgbClr val="ffffff"/>
                </a:solidFill>
                <a:latin typeface="Times New Roman"/>
              </a:rPr>
              <a:t>3. Jin: universal love, benevolence toward mankind; compassion.</a:t>
            </a:r>
            <a:br>
              <a:rPr sz="2400"/>
            </a:br>
            <a:r>
              <a:rPr b="0" lang="en-US" sz="2400" spc="-1" strike="noStrike">
                <a:solidFill>
                  <a:srgbClr val="ffffff"/>
                </a:solidFill>
                <a:latin typeface="Times New Roman"/>
              </a:rPr>
              <a:t>4. Rei: right action--a most essential quality, courtesy.</a:t>
            </a:r>
            <a:br>
              <a:rPr sz="2400"/>
            </a:br>
            <a:r>
              <a:rPr b="0" lang="en-US" sz="2400" spc="-1" strike="noStrike">
                <a:solidFill>
                  <a:srgbClr val="ffffff"/>
                </a:solidFill>
                <a:latin typeface="Times New Roman"/>
              </a:rPr>
              <a:t>5. Makoto: utter sincerity; truthfulness.</a:t>
            </a:r>
            <a:br>
              <a:rPr sz="2400"/>
            </a:br>
            <a:r>
              <a:rPr b="0" lang="en-US" sz="2400" spc="-1" strike="noStrike">
                <a:solidFill>
                  <a:srgbClr val="ffffff"/>
                </a:solidFill>
                <a:latin typeface="Times New Roman"/>
              </a:rPr>
              <a:t>6. Melyo: honor and glory.</a:t>
            </a:r>
            <a:br>
              <a:rPr sz="2400"/>
            </a:br>
            <a:r>
              <a:rPr b="0" lang="en-US" sz="2400" spc="-1" strike="noStrike">
                <a:solidFill>
                  <a:srgbClr val="ffffff"/>
                </a:solidFill>
                <a:latin typeface="Times New Roman"/>
              </a:rPr>
              <a:t>7. Chugo: devotion, loyalty.</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ushido has influenced Buddhism, and Buddhism has influenced Bushido; the elements of Buddhism found in Bushido are five:</a:t>
            </a:r>
            <a:br>
              <a:rPr sz="2800"/>
            </a:br>
            <a:br>
              <a:rPr sz="2800"/>
            </a:br>
            <a:r>
              <a:rPr b="0" lang="en-US" sz="2800" spc="-1" strike="noStrike">
                <a:solidFill>
                  <a:srgbClr val="ffffff"/>
                </a:solidFill>
                <a:latin typeface="Times New Roman"/>
              </a:rPr>
              <a:t>~Pacification of the emotions;</a:t>
            </a:r>
            <a:br>
              <a:rPr sz="2800"/>
            </a:br>
            <a:r>
              <a:rPr b="0" lang="en-US" sz="2800" spc="-1" strike="noStrike">
                <a:solidFill>
                  <a:srgbClr val="ffffff"/>
                </a:solidFill>
                <a:latin typeface="Times New Roman"/>
              </a:rPr>
              <a:t>~Tranquil compliance with the inevitable;</a:t>
            </a:r>
            <a:br>
              <a:rPr sz="2800"/>
            </a:br>
            <a:r>
              <a:rPr b="0" lang="en-US" sz="2800" spc="-1" strike="noStrike">
                <a:solidFill>
                  <a:srgbClr val="ffffff"/>
                </a:solidFill>
                <a:latin typeface="Times New Roman"/>
              </a:rPr>
              <a:t>~Self-control in the face of any event;</a:t>
            </a:r>
            <a:br>
              <a:rPr sz="2800"/>
            </a:br>
            <a:r>
              <a:rPr b="0" lang="en-US" sz="2800" spc="-1" strike="noStrike">
                <a:solidFill>
                  <a:srgbClr val="ffffff"/>
                </a:solidFill>
                <a:latin typeface="Times New Roman"/>
              </a:rPr>
              <a:t>~A more intimate exploration of death than of life;</a:t>
            </a:r>
            <a:br>
              <a:rPr sz="2800"/>
            </a:br>
            <a:r>
              <a:rPr b="0" lang="en-US" sz="2800" spc="-1" strike="noStrike">
                <a:solidFill>
                  <a:srgbClr val="ffffff"/>
                </a:solidFill>
                <a:latin typeface="Times New Roman"/>
              </a:rPr>
              <a:t>~Pure povert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murai Weapons</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Japanese Samurai were the master swordsmen of all time. They made the katana infamous as a lightening fast weapon that could cut through anything. In only Seconds, they could draw the katana, effortlessly wave it about their body in a butterfly motion with such great speed that you could barely comprehend where the hands had been. In the early 2nd century, Japanese swordsmiths started inserting softer cores into blades which significantly heightened sword flexibility. These new baldes could withstand the impact of heavy blows on armor without breaking. As warfare changed in Japan, the mounted warrior's Tachi sword was redesigned for foot soldiers. and the katana was born. They used the Yumi as their long bow.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3:24:17Z</dcterms:created>
  <dc:creator>Owner</dc:creator>
  <dc:description/>
  <dc:language>en-US</dc:language>
  <cp:lastModifiedBy>Owner</cp:lastModifiedBy>
  <dcterms:modified xsi:type="dcterms:W3CDTF">2008-11-24T06:43:06Z</dcterms:modified>
  <cp:revision>4</cp:revision>
  <dc:subject/>
  <dc:title>Samurai</dc:title>
</cp:coreProperties>
</file>